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549-4BD4-46C3-B64A-F3EA957D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A06-0387-4CA4-B4D9-97EDD62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E6A-500A-46B2-B6AD-8109C2C1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A61-2952-4027-BBE9-BE68C5AB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3CF-AF05-4CF5-A0FC-FFF246FA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74E-0FD0-4E01-8CF7-606A27EE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70B-5799-4E1D-80B9-85C8D085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557-B172-42D8-AC4A-5BBAFF5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C0D-C83A-4251-96CD-69ACE1F7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259-A4BE-4E27-9C7D-6F3BB86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C79-AE12-431B-8706-D7AD49F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E0A-E878-4D41-8873-9528FC8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032-4000-4E6D-8AAA-689E991C2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al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1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15000" y="171360"/>
            <a:ext cx="7567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Influencing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sonal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terest Groups SINGL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Opinion 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andom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7040" y="506520"/>
            <a:ext cx="5970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bli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ndidates/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ed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atchdog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Nation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or Re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bel, 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" y="35712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hey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r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bb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gulation/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ribes, “Gif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I: Political Part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art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omas Jeff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mocratic Republ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mo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lexander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publ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ir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opulists, Progr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Political Ide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beralism------------------Conserv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mocrats------------------Republ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asic fundamental differences of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litical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ci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conomic free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arty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me/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raight ticket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Major U.S.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mocr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gger Government, More role in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gulating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ping the less fortu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cial Freedom, Economic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publ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ss gov’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ss Government, Les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litical Freedom, Economic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Indepe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pends, Moderate, Middle of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V. National Party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. National Committe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National Party Chairpers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. National Conven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Every four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Write Platform with Plan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Nominate Party Presidential Candid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. State/Local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. State committ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50 to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. Local Committ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Precinc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W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. Political Mach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. Tammany Ha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. Role of Political Partie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ting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losed &amp; Open Pri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off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for Third Party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y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ing For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73160" y="171360"/>
            <a:ext cx="62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Election Process &amp;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l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tempo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ow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lling Place; Prec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st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Ballo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bsentee Vo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240" y="228600"/>
            <a:ext cx="631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mary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ucus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ner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pecial/Issue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residential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ion;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ampaig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v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vate (soft $, PACs)  -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2720" y="39600"/>
            <a:ext cx="490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mpaign Tac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ittering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ndw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ersonal Attacks/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ndo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st Plain Fo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15:36Z</dcterms:created>
  <dc:creator>Chatham Central</dc:creator>
  <dc:description/>
  <dc:language>en-US</dc:language>
  <cp:lastModifiedBy>Chatham County</cp:lastModifiedBy>
  <cp:lastPrinted>2008-02-25T13:35:46Z</cp:lastPrinted>
  <dcterms:modified xsi:type="dcterms:W3CDTF">2009-06-15T17:13:59Z</dcterms:modified>
  <cp:revision>12</cp:revision>
  <dc:subject/>
  <dc:title>Political Parties Chapter 9</dc:title>
</cp:coreProperties>
</file>